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35237"/>
        <c:axId val="58408446"/>
      </c:barChart>
      <c:catAx>
        <c:axId val="3843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8446"/>
        <c:crosses val="autoZero"/>
        <c:auto val="1"/>
        <c:lblAlgn val="ctr"/>
        <c:lblOffset val="100"/>
        <c:noMultiLvlLbl val="0"/>
      </c:catAx>
      <c:valAx>
        <c:axId val="58408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3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16E-9390-48F4-8182-6A8D84D3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5EB-7315-4CF8-A0FD-5AC08417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175-263E-429C-A65A-F8C7406F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A70-98DE-4663-9E3E-DCCDA0B0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FD7-284E-4F07-B3C4-107CA2A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350-223C-434F-8F6B-019C9F8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02C-93D7-4A4E-84BE-62FD35E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BAD-0081-467F-83C9-43B3CB1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598-1B95-44F2-BD35-F5D2BA46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0CC-D741-4A6F-9C88-A8C4448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15F-4E64-49BA-9F17-5979DCB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A14-B33E-4500-86E7-9F8A447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5FB34-4E7A-48CB-ABC9-085E05E408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