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7950"/>
        <c:axId val="54092617"/>
      </c:barChart>
      <c:catAx>
        <c:axId val="49167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92617"/>
        <c:crosses val="autoZero"/>
        <c:auto val="1"/>
        <c:lblAlgn val="ctr"/>
        <c:lblOffset val="100"/>
        <c:noMultiLvlLbl val="0"/>
      </c:catAx>
      <c:valAx>
        <c:axId val="54092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7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80C-4567-4183-8A2A-29FB5B4A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4B0-CA14-4734-9EDF-417F5E0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161-E90E-4987-977F-AEA162A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FAC-EB35-49CE-8345-ED60DA1A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F0F-B22D-4262-B841-E5287629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ED8-96E6-4302-8CF8-A5EB6AC9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838-A409-490B-A992-73814C3C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4EA-9180-4370-9185-A1E8C70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020-78BA-40FF-8687-66CD0BB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49F-F1D0-42A1-B2E9-065ACD41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124-34CF-4914-A203-BCEA361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581-EBC3-4070-8D39-F8EC265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B0173-17E6-4BAF-94C9-BA7585BB2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