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44258"/>
        <c:axId val="43751890"/>
      </c:barChart>
      <c:catAx>
        <c:axId val="90544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1890"/>
        <c:crosses val="autoZero"/>
        <c:auto val="1"/>
        <c:lblAlgn val="ctr"/>
        <c:lblOffset val="100"/>
        <c:noMultiLvlLbl val="0"/>
      </c:catAx>
      <c:valAx>
        <c:axId val="43751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44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F87-8D97-4A98-A60E-8A6FC1BA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9E0-DED6-4F59-8CCF-0731F29B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797-8549-4F4D-8B1A-7873D748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8C9-341D-47F1-9D88-CD414865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0FF-025A-4F5E-994C-448C707F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251-983B-430C-BBCE-A8D498F6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835-D72B-4246-B59C-9F3340E0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0D9-9E70-4B36-9274-45CEE61C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ACF-FBF1-45E2-BE5C-FDE5A475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762-6490-49CA-BF0D-875B5244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201-4829-48B9-B5DA-7B8F614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871-7B95-4DE1-97E9-8CE2FE3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83190-CFF2-4A08-A2A9-DA4A7F1DE8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