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34291"/>
        <c:axId val="69958945"/>
      </c:barChart>
      <c:catAx>
        <c:axId val="3134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58945"/>
        <c:crosses val="autoZero"/>
        <c:auto val="1"/>
        <c:lblAlgn val="ctr"/>
        <c:lblOffset val="100"/>
        <c:noMultiLvlLbl val="0"/>
      </c:catAx>
      <c:valAx>
        <c:axId val="699589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4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A48-22BB-4B57-B674-136E52B8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4DA-DD74-4632-AABA-ED8172FE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15DF-4180-42E9-98F0-02503E2C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8DB-9947-4D71-8AFA-B53C2429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3941-6F61-4403-8BF5-46E639ED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3F02-D075-4CBA-BC5F-EAEA3C39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2686-3EF8-407F-8058-E7E3BCD3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4CC2-7561-4537-A4BE-859E2871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B708-8BB7-40E4-80BA-046498C8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E1DB-55C5-494F-845A-58322362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0A0-9BB3-45D8-BCAA-CAE1F31B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7049-1BB3-43CF-9EE8-9C55792C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582C8-0E97-44B7-9525-F383A6E0B1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