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28913"/>
        <c:axId val="63977745"/>
      </c:barChart>
      <c:catAx>
        <c:axId val="14028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77745"/>
        <c:crosses val="autoZero"/>
        <c:auto val="1"/>
        <c:lblAlgn val="ctr"/>
        <c:lblOffset val="100"/>
        <c:noMultiLvlLbl val="0"/>
      </c:catAx>
      <c:valAx>
        <c:axId val="6397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8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03C-A060-4E2A-AC09-CEF63263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B51-E376-4B5C-AD1E-BCBBAED2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C70-4F85-4B67-B32B-417CB40B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C33-46E6-4FA8-B095-6615A788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3EC-5F5A-4AFA-BECC-0BCE212A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02B-6CB7-426B-B5F8-578E968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BF7-3C4E-4524-AF09-B7C6234A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2C9-048F-4D24-BC75-AFCCE12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76B-B1DF-4F19-BE6A-1199F27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DD2-FEE5-4898-A7B9-65956578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2DC-712E-4654-BDC7-5B398C4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B30-399A-4A67-9E04-65FD1B14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3A46B-CC5A-43D3-BF50-B7934264E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