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13159"/>
        <c:axId val="4132585"/>
      </c:barChart>
      <c:catAx>
        <c:axId val="62013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585"/>
        <c:crosses val="autoZero"/>
        <c:auto val="1"/>
        <c:lblAlgn val="ctr"/>
        <c:lblOffset val="100"/>
        <c:noMultiLvlLbl val="0"/>
      </c:catAx>
      <c:valAx>
        <c:axId val="4132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13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8E1-09A7-41F4-8F52-8C7B651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C3A-09A8-4BCE-B3CD-1C2E218F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877-8952-40B4-8EF5-78AC3B1E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034-9098-49DC-B8F5-16D69057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D6B-B055-4A84-8320-C4D95FF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4B3-BFF4-4492-B578-EC8F705D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098-6F46-4CAC-B772-5A896F30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F6A-0888-447F-9AA5-65D83EE8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046-AA63-42C9-A7C4-D4F6D1D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CC3-01DB-44F3-886A-2B07A7A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AC6-361A-4C0A-B1BB-E26D484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F25-4335-45D9-8D80-9F210B1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1802D-607D-4BAF-9A69-368FC61C2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