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97006"/>
        <c:axId val="12962844"/>
      </c:barChart>
      <c:catAx>
        <c:axId val="70597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2844"/>
        <c:crosses val="autoZero"/>
        <c:auto val="1"/>
        <c:lblAlgn val="ctr"/>
        <c:lblOffset val="100"/>
        <c:noMultiLvlLbl val="0"/>
      </c:catAx>
      <c:valAx>
        <c:axId val="12962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7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FDE-B825-442F-88F7-DC9C66F6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FE0-B7E7-4D87-9761-FEC1485B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0B0-C45B-48C3-9984-9ED2626A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F51-90BC-4801-A8CA-16F0A3CE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467-256D-4707-8C4E-70D59D88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00E-3F01-432D-B400-88927F56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D2E-3C0B-4CBA-8F58-979066CD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780-AA18-4E09-9099-B99A9C45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4CA-F722-43FD-9515-70F984C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DF7-5D87-41E2-A2D4-07E0F2A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465-A4AE-4D8E-9956-A8938F8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2A4-C2AF-40CB-A863-2482559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2FA28-4ACE-402C-BA01-E648069880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