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713969"/>
        <c:axId val="86805769"/>
      </c:barChart>
      <c:catAx>
        <c:axId val="147139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05769"/>
        <c:crosses val="autoZero"/>
        <c:auto val="1"/>
        <c:lblAlgn val="ctr"/>
        <c:lblOffset val="100"/>
        <c:noMultiLvlLbl val="0"/>
      </c:catAx>
      <c:valAx>
        <c:axId val="86805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139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5A1-A901-41AC-B833-AE09ACA2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4CF3-8709-479C-942A-0CA616C4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E486-FF5B-417D-AB9B-A66C3C6B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F6FE-5E3A-4F18-A354-7A1D2BEE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4750-FC2F-4D26-825B-EC708079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4091-363E-4DE6-B25B-F6CF1CDE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647-03A5-484A-9876-BB3AF1B4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AD2E-ADC6-4B78-9D11-0D17C94D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4C5A-61D8-4639-86ED-CAB735C8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72FD-5500-434A-AA37-0DA5B50A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16A5-4B60-4B37-8CE2-36DCEAE8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FF00-7C1B-486E-96CF-655A0AF7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FBE26-EC59-40E7-943A-BB4A002807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