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50212"/>
        <c:axId val="73343899"/>
      </c:barChart>
      <c:catAx>
        <c:axId val="28250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43899"/>
        <c:crosses val="autoZero"/>
        <c:auto val="1"/>
        <c:lblAlgn val="ctr"/>
        <c:lblOffset val="100"/>
        <c:noMultiLvlLbl val="0"/>
      </c:catAx>
      <c:valAx>
        <c:axId val="73343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50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191-C460-4FE5-93BF-A7408423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C8A-4AF7-475C-8E21-42C86E5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ECED-048D-4DCC-8C04-9E953AA8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024-B870-4E7B-B30F-FE989E3B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29D-7F30-48E9-A8F9-A919EDE3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EC8-DA00-4CA0-9C6C-4B03F7C4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6EB-D942-4333-8D93-B7BD449B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D2F-6AC8-42F8-AC01-72AA60EA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09F-20FF-432D-8562-D6950772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CE9-4BF8-4EAF-8D52-FA23D737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B94-0138-45F2-8CE8-CC26BFF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793-C329-4C7C-8287-1001D67F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7FE97-8C6F-48F5-B7C7-631E15E0F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