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13689"/>
        <c:axId val="14491438"/>
      </c:barChart>
      <c:catAx>
        <c:axId val="86413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91438"/>
        <c:crosses val="autoZero"/>
        <c:auto val="1"/>
        <c:lblAlgn val="ctr"/>
        <c:lblOffset val="100"/>
        <c:noMultiLvlLbl val="0"/>
      </c:catAx>
      <c:valAx>
        <c:axId val="14491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13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04C-1327-4C94-A79F-DCFA3990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CC1-FD27-43CD-B6A8-08F2D6A2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0C3-329E-4210-A73C-259588D8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7CC-DC13-446C-837D-89A46717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133-D492-4C8F-8786-4C8D4BAC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89B-5E96-47EE-9AFD-B702C3B9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77E-049C-4460-BCC5-9F97D164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512-CF8B-4084-BE0F-946013CD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E69-BFCE-4053-BB54-F65490F7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05A-76A9-43EC-830C-FB04CB1E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22B-4FEF-4F83-B654-0FA122D6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D80-72B5-4596-AD2E-28114F3F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38E36-9A26-40AC-ACA0-EF18DDA9BB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