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79539"/>
        <c:axId val="84901984"/>
      </c:barChart>
      <c:catAx>
        <c:axId val="77379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01984"/>
        <c:crosses val="autoZero"/>
        <c:auto val="1"/>
        <c:lblAlgn val="ctr"/>
        <c:lblOffset val="100"/>
        <c:noMultiLvlLbl val="0"/>
      </c:catAx>
      <c:valAx>
        <c:axId val="84901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79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0BE-384C-419A-A27C-5E98DFFD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1F3-C959-46D2-B201-8EFC92D1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100-C178-4362-8C18-246FB82A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2F9-02FC-4F2D-B507-1F588CB4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EA0-DE15-46C7-BDFD-9A9F27F8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708-757B-4403-AFC2-60E3FCDC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7AE-8078-48AA-88D4-0A59553C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E12-048D-471F-97D2-26E7E808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D4C-1ECC-4DB9-A80D-3022671D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613-5353-4507-8514-C9BE4F16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81D-2B35-4AE6-8A66-C195CE11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0C6-E4AE-49BB-A35E-2CE15035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DD7B7-DFEA-42CD-A449-573426506B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