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59826"/>
        <c:axId val="76436020"/>
      </c:barChart>
      <c:catAx>
        <c:axId val="87459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36020"/>
        <c:crosses val="autoZero"/>
        <c:auto val="1"/>
        <c:lblAlgn val="ctr"/>
        <c:lblOffset val="100"/>
        <c:noMultiLvlLbl val="0"/>
      </c:catAx>
      <c:valAx>
        <c:axId val="76436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59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76B-51CA-4DE1-AE83-A5445CEC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918-033E-41E7-BBD2-6D7E53FE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695-6A56-4B15-82DD-7D4C28BE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0EB-4DB3-4F24-B24B-B1C58606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5C5-4095-4876-91CA-1D8927AC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7F7-5B8E-45DA-B8B0-47EF0509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DF5-14B5-438D-ADA1-F1F849B0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6F5-5043-48CA-BCFC-34A5E8AC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EBA-4D05-4335-9FBB-5FC278F9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F72-AFCE-4B14-A243-81CF70A6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4A8-3C24-4E9A-84B1-54966F5D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DE0-D331-47B0-B79C-DC20FC30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1CFEA-76BC-4C0E-AD97-1EAC37406F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