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50514"/>
        <c:axId val="26451097"/>
      </c:barChart>
      <c:catAx>
        <c:axId val="89450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51097"/>
        <c:crosses val="autoZero"/>
        <c:auto val="1"/>
        <c:lblAlgn val="ctr"/>
        <c:lblOffset val="100"/>
        <c:noMultiLvlLbl val="0"/>
      </c:catAx>
      <c:valAx>
        <c:axId val="26451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50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230-DDC2-4374-BC1E-6A6C292F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9F6-9D90-436C-8F60-C991B223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CB1-A535-4935-B216-DB028C37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BA7-BCB2-4086-A74F-C40BA148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6BC-AFDF-41C6-BD7B-F7F6C7E8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ED3-15E0-442E-AC82-B74C6C43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2B5-9B0D-46C9-8589-EED4960E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99E-2734-49B4-95C1-78660C78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149-E49A-4913-B9B3-6A0CA083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2E9-5685-4C28-8FCC-8BD60E73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C76-9080-4E2D-9ED0-11EB4C3B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667-A07F-409C-8BB7-56E09FA6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CF8A4-A5B1-48DA-A3C4-0FAE6BBC36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