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707120"/>
        <c:axId val="352640"/>
      </c:barChart>
      <c:catAx>
        <c:axId val="867071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2640"/>
        <c:crosses val="autoZero"/>
        <c:auto val="1"/>
        <c:lblAlgn val="ctr"/>
        <c:lblOffset val="100"/>
        <c:noMultiLvlLbl val="0"/>
      </c:catAx>
      <c:valAx>
        <c:axId val="3526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7071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52CC-E447-4E0A-80F8-432F440C8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6379-D744-4F4E-AFD8-3AA92CCBE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6E04-1B04-4DC3-8171-B79CB11E5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567B-6111-478E-9FEC-EDE35172A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2CFF-6EE1-4371-A1AA-AE2BC60DD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61DA-A57E-4CFF-83A6-2660F3832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FB98-1D36-4E36-95E2-14E054B39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5211-2D4C-4778-A94F-7A0E2CCD6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AE33-D690-4276-9429-64F8446F6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2858-454D-4C0B-AF42-CF2FBD039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754D-74C0-49CF-9ED8-751EA3C19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3BBC-F703-4F66-B12E-14D22A272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CF8B5F-ACE4-431D-B834-DD07DAA5B70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