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247048"/>
        <c:axId val="12383024"/>
      </c:barChart>
      <c:catAx>
        <c:axId val="39247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83024"/>
        <c:crosses val="autoZero"/>
        <c:auto val="1"/>
        <c:lblAlgn val="ctr"/>
        <c:lblOffset val="100"/>
        <c:noMultiLvlLbl val="0"/>
      </c:catAx>
      <c:valAx>
        <c:axId val="123830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47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D4F-3851-46D6-B602-4F6CEF3B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D9E-2240-41A9-AD80-289F8B38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6B3E-00BE-4748-AB75-AA44BC38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6FFD-6321-4D81-9D88-FE2DA519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3EF-5E81-40D1-A750-8C1889B4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3169-71BE-47F4-8456-9DAFE73B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BE5-EC06-4167-9DD6-5296EEE4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0FB-2A5A-4003-89F8-93EFCCD3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806-8074-4E5E-9D90-4E30C30C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C64-8E2C-4732-905B-EE3C6821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7387-9FE2-45C1-BB54-02C08709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141-A069-4DF5-8315-5187664E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7552C-9EDC-4653-9780-DC6A0BB0F6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