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69340"/>
        <c:axId val="56070197"/>
      </c:barChart>
      <c:catAx>
        <c:axId val="95069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70197"/>
        <c:crosses val="autoZero"/>
        <c:auto val="1"/>
        <c:lblAlgn val="ctr"/>
        <c:lblOffset val="100"/>
        <c:noMultiLvlLbl val="0"/>
      </c:catAx>
      <c:valAx>
        <c:axId val="560701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69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80C-B383-47EF-B1FA-D29B8A16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FA3-D4A3-49DC-948C-D84B4007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B713-987B-477B-B383-01ABB34D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8D9C-21D6-4F25-B8B5-CDA2955E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0F8-00E8-4A37-923B-0E4342AF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BDAC-F3FE-4C94-82E2-B6E79A42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A8D-3528-4C62-AFF8-9DB70C24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BC9-B666-4E92-9EFF-6717C0E7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C8FE-C4ED-4C6C-BC1D-84E9F458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40E-0B0C-4697-90FA-9A97ADCA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1A8-8853-467F-956F-1D21F30C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172-CF0B-4076-ADE3-2E69E8D7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698CA-109D-4C83-B45D-B3E5C3453B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