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102953"/>
        <c:axId val="75797487"/>
      </c:barChart>
      <c:catAx>
        <c:axId val="101029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97487"/>
        <c:crosses val="autoZero"/>
        <c:auto val="1"/>
        <c:lblAlgn val="ctr"/>
        <c:lblOffset val="100"/>
        <c:noMultiLvlLbl val="0"/>
      </c:catAx>
      <c:valAx>
        <c:axId val="757974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029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0CE9-F29B-4E6D-BC74-FF06BBB2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193A-D4EB-4264-BE79-C8E8D423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C995-870C-4251-96FB-3CDE6747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C8FE-F476-405F-952A-0DAD91F27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6E47-9C1E-42D3-B271-9C5D47F8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C161-2E04-4B94-A8AC-C409AD94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7562-3C9D-4E83-A386-FE3B0D6D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71D8-5DA6-4926-8610-68309D98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0043-0723-4AB0-A9BE-3EF2F576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080A-0A1B-4763-BCC6-BDCC582C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1B96-B8F2-4C21-AD26-9DA053D4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C157-BC9E-45C4-84BC-FED1938B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C0C4C-35A3-4E62-B585-8484C566C1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