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00085"/>
        <c:axId val="65729615"/>
      </c:barChart>
      <c:catAx>
        <c:axId val="11100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29615"/>
        <c:crosses val="autoZero"/>
        <c:auto val="1"/>
        <c:lblAlgn val="ctr"/>
        <c:lblOffset val="100"/>
        <c:noMultiLvlLbl val="0"/>
      </c:catAx>
      <c:valAx>
        <c:axId val="65729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00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F90-A7EE-4264-8194-CB7C4953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C54-0AF7-4AC6-A03C-3EA54484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7B6-E8DD-4E68-B7EB-C2EC2F44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FC8-B3A4-493B-8674-7997618B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DB7-67F4-4969-9551-5D97D357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90B-C93B-41BA-B676-88202164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70E-CCD7-44F4-8FA4-BE700FBD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6B0-8FDE-4A74-B385-3E975DA3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5C5-67E5-40E9-BF53-FB847D4A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BC0-8BC9-425B-BCC2-A387B4DF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8BA-3EB3-45D5-9645-22E69D35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B07-2B60-4FB5-B6F4-EBCDE9EA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4D2EA-9D41-474D-ADA4-9B452D9347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