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3881"/>
        <c:axId val="2179968"/>
      </c:barChart>
      <c:catAx>
        <c:axId val="2003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9968"/>
        <c:crosses val="autoZero"/>
        <c:auto val="1"/>
        <c:lblAlgn val="ctr"/>
        <c:lblOffset val="100"/>
        <c:noMultiLvlLbl val="0"/>
      </c:catAx>
      <c:valAx>
        <c:axId val="2179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3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262-84C6-4045-96F1-43AA25E5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478-2147-498B-9572-AA07741A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D42-1857-413E-8F84-69709CD9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D31-C5BB-41CB-A210-83AEE29C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BCD-CF01-4025-A0BB-3A4ECA6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5C8-418F-472F-B14A-2529E7C3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B81-3A95-44FE-85DF-4BE26886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77D-CCD0-497E-A79A-F8DD9642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AD5-DDC2-43E5-A7BC-D9F0118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4A4-128A-4B49-A082-44EE5A9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75B-2976-43F2-912B-67D1B01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825-FB45-4980-8A43-E39C8B6A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F956D-D565-4641-85CF-F3D3212A43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