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47187"/>
        <c:axId val="75352121"/>
      </c:barChart>
      <c:catAx>
        <c:axId val="42147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52121"/>
        <c:crosses val="autoZero"/>
        <c:auto val="1"/>
        <c:lblAlgn val="ctr"/>
        <c:lblOffset val="100"/>
        <c:noMultiLvlLbl val="0"/>
      </c:catAx>
      <c:valAx>
        <c:axId val="75352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47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D55-3F05-4A4B-9CA1-ADA7B674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69E-54A4-4027-AFED-D8D7E2C7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A4C-ACF2-44CB-8F06-66F4234C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89C-76BE-4DCB-A1A0-951B15B1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65C-627B-43C7-9ECD-E94A8D95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FD9-8802-4F2F-A1CC-5872C688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046-4E36-4448-B4A0-D62223AE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FB5-99DA-4B37-86A2-C2CE24DA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4EB-6C57-4AE4-9083-74E7C146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86D-F906-454B-8083-C50DD5AC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469-19C5-44E0-A46D-0F1B82FA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1D6-5453-46FF-B111-4604C9F8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6A03A-F2AD-46E0-B2D7-94CC7F4BFA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