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21832"/>
        <c:axId val="48161192"/>
      </c:barChart>
      <c:catAx>
        <c:axId val="62521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61192"/>
        <c:crosses val="autoZero"/>
        <c:auto val="1"/>
        <c:lblAlgn val="ctr"/>
        <c:lblOffset val="100"/>
        <c:noMultiLvlLbl val="0"/>
      </c:catAx>
      <c:valAx>
        <c:axId val="48161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21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C97-96B3-4D59-AD09-8568D804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9D4-DD21-45DA-8D1A-76AD7E9B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836-84B6-409D-9513-556F1673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FC7-9FA9-4C2F-AE13-6C267BA7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5F5-89DD-48AC-B6A2-D661561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CC4-17D9-4DA9-ACBE-C703CF8F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7BA-2B4A-4D2E-91B7-27E401A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873-90CA-4549-9D26-E3A26BF9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A4F-68F3-4EB4-B061-ED0CB013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CA0-FCFA-4032-8B5B-E3DDBEB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7FF-7898-417F-8253-9CBB6571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DE5-D1BA-4551-8830-670E0ADA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6B5B6-5895-4FB4-B08B-E9A3DCF6B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