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44856"/>
        <c:axId val="65161136"/>
      </c:barChart>
      <c:catAx>
        <c:axId val="19844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61136"/>
        <c:crosses val="autoZero"/>
        <c:auto val="1"/>
        <c:lblAlgn val="ctr"/>
        <c:lblOffset val="100"/>
        <c:noMultiLvlLbl val="0"/>
      </c:catAx>
      <c:valAx>
        <c:axId val="65161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44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670-7168-4490-BDE4-DA112ED2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3BD-0A49-4AC1-9B24-40A76753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10C-FC41-4BFC-AF7D-BB3A6D89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18D-9143-4E50-B164-00CE9377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C89-4C62-4629-A806-6212F765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559-219E-4791-ABF5-3817AA8A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29E-6661-4648-9566-AB91FDBD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D7E-FE4E-4586-8EC9-02520086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FD7-A93C-4688-BC8E-D06E545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CAD-EA28-4BC1-B19C-197BE73B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B6F-C1C8-4969-ABBD-113091B6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75E-0F2B-4A34-B3F9-497ED49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FCB29-3A26-4D21-9D42-B08B54CF8D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