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24565"/>
        <c:axId val="2201391"/>
      </c:barChart>
      <c:catAx>
        <c:axId val="72245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1391"/>
        <c:crosses val="autoZero"/>
        <c:auto val="1"/>
        <c:lblAlgn val="ctr"/>
        <c:lblOffset val="100"/>
        <c:noMultiLvlLbl val="0"/>
      </c:catAx>
      <c:valAx>
        <c:axId val="22013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45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3F53-8078-4C9B-A705-B22B1368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FF8F-5DEF-483E-BC66-9020B583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33CA-E5E4-4EA1-BAE5-B01E5C1B7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3904-1F1C-4C11-B568-AA84ECD0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CE2A-BE6D-4E66-BBC2-B06FAF22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DA80-9D9D-49B0-B82A-96520CBA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51BA-6AA4-47EF-AEFB-4FD77416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6D53-C866-41B9-88D5-FD790373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789F-273C-4B88-B0DF-E3FB72AB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8F80-F5DC-484E-A931-02D023B7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AEA5-FEB4-4594-8A1B-6A6F7F40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9B58-076C-4871-8A73-87EE8516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13D4C-2500-40D8-B169-8CF7EE4318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