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87791"/>
        <c:axId val="18806867"/>
      </c:barChart>
      <c:catAx>
        <c:axId val="98987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06867"/>
        <c:crosses val="autoZero"/>
        <c:auto val="1"/>
        <c:lblAlgn val="ctr"/>
        <c:lblOffset val="100"/>
        <c:noMultiLvlLbl val="0"/>
      </c:catAx>
      <c:valAx>
        <c:axId val="18806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87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9D6-D88E-4ABA-8E93-C4156B52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E2B-8903-4031-A787-2FA8E2A8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3FB-D42A-4A88-9386-AF13161D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9A1-2208-4300-B54B-6E26CE57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198-3DD5-4011-BCB0-F967CDC6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2C12-CE9D-469B-B9A9-6F5082E5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D54-715A-4D65-B584-6EEC2921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F82-B395-4DB0-B128-C5E2455D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25C-1632-4B11-8D74-BD181110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784-9829-42C2-999C-2616696B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F74-356A-4694-888E-102767F9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DDA-8684-4BD1-ACBC-EDA425EB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CA888-CFD4-4717-B444-3E4D771141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