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49638"/>
        <c:axId val="27226045"/>
      </c:barChart>
      <c:catAx>
        <c:axId val="86049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26045"/>
        <c:crosses val="autoZero"/>
        <c:auto val="1"/>
        <c:lblAlgn val="ctr"/>
        <c:lblOffset val="100"/>
        <c:noMultiLvlLbl val="0"/>
      </c:catAx>
      <c:valAx>
        <c:axId val="27226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49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E14-4AFA-4DE8-A7E7-807B746B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624-5B3C-480D-BFE5-F8422E7E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9A7-DBD9-4D11-B684-0B91C79A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1E5-6EB7-4A00-BC38-195A8ADA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636-4684-42AA-802B-42C96469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B2C-211E-40A0-96CE-FCD02F50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84F-F1BE-4FF9-B20C-7023535F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D59-9063-4BC3-AF64-5FED681A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AA6-DC75-44EF-8254-9873C49A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AC8-FDCE-4E5C-8371-844215B5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8CD-DB5F-47F0-A733-A10828C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E49-0138-4C1C-80B6-6CD6AEB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7B43E-D414-4432-912F-C1686E9AA8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