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39272"/>
        <c:axId val="85544513"/>
      </c:barChart>
      <c:catAx>
        <c:axId val="42039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44513"/>
        <c:crosses val="autoZero"/>
        <c:auto val="1"/>
        <c:lblAlgn val="ctr"/>
        <c:lblOffset val="100"/>
        <c:noMultiLvlLbl val="0"/>
      </c:catAx>
      <c:valAx>
        <c:axId val="8554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9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11B-20DB-42F4-B9D2-7293BF2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55E-DC9D-49E0-B824-730377A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AAC-148E-4D96-B2D6-7298F76A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242-A0B1-4161-AFD8-08F7D14E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111-5F63-4A90-AB01-B29A28B7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827-1008-4301-BCE2-92629C1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8A7-FDAE-4538-9048-C15C80C0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506-0AC6-457F-923F-3C42A18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724-C772-4659-A187-F44ED982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833-0F9A-4C36-8D3C-3E8E411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E78-B17C-4458-B54E-E645B59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51B-87EE-402C-BB8D-393A53F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8617E-05E0-443D-87A8-F89C8A503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