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474137"/>
        <c:axId val="89887882"/>
      </c:barChart>
      <c:catAx>
        <c:axId val="404741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887882"/>
        <c:crosses val="autoZero"/>
        <c:auto val="1"/>
        <c:lblAlgn val="ctr"/>
        <c:lblOffset val="100"/>
        <c:noMultiLvlLbl val="0"/>
      </c:catAx>
      <c:valAx>
        <c:axId val="898878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4741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6C06-D97E-465D-80CE-3035631F3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8635-1952-4A11-972D-22A24A81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1AD8-AFD3-44F7-9DF7-14EDDF105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55B2-1ECE-4024-B8B9-DF2A03DDA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80C8-28C7-43E7-AEAD-5947F424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9484-C396-49D3-AA3B-5AE30BF4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5392-86E6-4613-A39C-3427EDC8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0D3F-0215-49B4-826F-E65DBDBD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6F4E-07BE-44CB-A106-9498CBE3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8D8A-07CB-4506-BC72-BBAEDD71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1A39-4967-49F7-8928-5D1CBD02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91A4-BB7E-4719-B3E1-74C8542A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A4BD87-3015-462D-A7AE-FBA165CF3D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