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450371"/>
        <c:axId val="60880175"/>
      </c:barChart>
      <c:catAx>
        <c:axId val="214503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80175"/>
        <c:crosses val="autoZero"/>
        <c:auto val="1"/>
        <c:lblAlgn val="ctr"/>
        <c:lblOffset val="100"/>
        <c:noMultiLvlLbl val="0"/>
      </c:catAx>
      <c:valAx>
        <c:axId val="608801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503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81EB-7F2C-4474-9C5B-73185B38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CFDE-B9F9-416E-9F4F-96EB2BD5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872E-98E3-4E02-BCCD-B787B705A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B4A5-3A7A-4824-91D2-6CC0E76D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A571-877F-4AFA-A2AD-5B547FBC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2FF3-50EF-4952-BF65-CDAD4A93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B805-58CB-4AE5-A03E-1FF1A764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86BB-C972-4116-9C11-3F69DB28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CAB0-C171-4D70-B6F2-09ED7F14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BA25-48FF-42DD-9F22-D9414914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9038-F625-42D6-B4EA-3079D722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9DD4-4C1B-41F4-9050-6D08395A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2E956-2C89-41F4-9EC2-411FCA8F31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