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015335"/>
        <c:axId val="341322"/>
      </c:barChart>
      <c:catAx>
        <c:axId val="240153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1322"/>
        <c:crosses val="autoZero"/>
        <c:auto val="1"/>
        <c:lblAlgn val="ctr"/>
        <c:lblOffset val="100"/>
        <c:noMultiLvlLbl val="0"/>
      </c:catAx>
      <c:valAx>
        <c:axId val="3413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0153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3A15-5328-4D39-BB9E-090B7A791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3327-FE17-4AB3-AFF2-196911737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AEFB-4DB9-4FD7-BF6B-9D964E672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208E-7301-43D9-A7F0-2A17A6E39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14A8-C667-477C-B622-53FACFE80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A9C8-FDDE-4DC5-A968-360C704D4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0FB2-4ED2-41CA-858C-E891A3CE5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BBAB-F067-4A16-8D73-7CA47804A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4F4E-A800-437B-A1F3-64AF31490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AF84-AF9E-4DF2-AF42-C31C5F9D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A554-2D01-4F33-9391-A4F58721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440D-2762-407E-B2FA-095E5385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0951AC-EF06-4E6E-A5A8-379ECE95923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