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60273"/>
        <c:axId val="31029133"/>
      </c:barChart>
      <c:catAx>
        <c:axId val="32160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29133"/>
        <c:crosses val="autoZero"/>
        <c:auto val="1"/>
        <c:lblAlgn val="ctr"/>
        <c:lblOffset val="100"/>
        <c:noMultiLvlLbl val="0"/>
      </c:catAx>
      <c:valAx>
        <c:axId val="310291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60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EE1F-3433-499B-9F15-2375D8BC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C8E2-899D-4D5A-A418-7AF6D0D6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C323-AAA0-494E-AED1-4C409158D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C8E6-48F3-4987-B4D8-CCD14BD2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32A-1711-45DA-B7A8-75399B8B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C84E-0B3C-4556-BFF5-B7DAA388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FC9-47B6-4B37-BAAB-E9DAFF01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B41F-A3FC-4B95-A255-A98C7E1A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701-4C49-42E1-8C15-8D387B6B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2562-7F7E-4B50-A816-6C9CD409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F502-5B1B-4933-AE5A-31949257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48F-9DDE-4B02-B410-FF62FF35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887E96-BD05-4A59-9CDB-159B9B7801C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