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05259"/>
        <c:axId val="61469355"/>
      </c:barChart>
      <c:catAx>
        <c:axId val="50805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9355"/>
        <c:crosses val="autoZero"/>
        <c:auto val="1"/>
        <c:lblAlgn val="ctr"/>
        <c:lblOffset val="100"/>
        <c:noMultiLvlLbl val="0"/>
      </c:catAx>
      <c:valAx>
        <c:axId val="61469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5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5DE-991E-4765-A9A4-4D77B86C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7DD-0244-443C-BD60-0FC88C45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BCF-EFBB-4B6F-B20F-6ABD34B4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088-A9D7-4DC8-A5AE-4B505409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648-8084-4A87-9547-DD701723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433-03C4-4808-958E-9C8733E0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D56-A2ED-4887-908C-F291648C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3E0-5D7D-4DAB-BFE3-003E6819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138-63E1-49BE-BE0C-31311086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140-5977-4E22-939E-E7868EF8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B6A-E7BA-4945-B17C-85EA33CF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D2B-9C8B-4D60-8222-D7467DF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23419-998A-4216-9DB8-7477BF6C18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