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5519"/>
        <c:axId val="76951418"/>
      </c:barChart>
      <c:catAx>
        <c:axId val="2325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1418"/>
        <c:crosses val="autoZero"/>
        <c:auto val="1"/>
        <c:lblAlgn val="ctr"/>
        <c:lblOffset val="100"/>
        <c:noMultiLvlLbl val="0"/>
      </c:catAx>
      <c:valAx>
        <c:axId val="7695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4CB-3541-461A-ACAB-8FDA843E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000-9B50-406D-8FC5-0405C38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6B5-7203-4905-988A-B3643591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713-6177-42F6-86EC-3F511D08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5E4-B70F-45E0-AD6C-71D2FAB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ACD-EBDA-42FE-9D7D-FA20CEEF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3B0-459C-4AA0-951B-71ECD081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666-B79A-4F92-82B1-FF2ACF1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FD4-D8B2-47ED-AFCB-C4D600E5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181-346A-413F-B66D-AA0CAFC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2CA-8230-48BB-A14C-EBA938B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AF9-FC2C-4F3D-AABA-9CC528B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C4B51-175F-431D-98DA-00F8E6BEF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