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877588"/>
        <c:axId val="98805651"/>
      </c:barChart>
      <c:catAx>
        <c:axId val="628775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805651"/>
        <c:crosses val="autoZero"/>
        <c:auto val="1"/>
        <c:lblAlgn val="ctr"/>
        <c:lblOffset val="100"/>
        <c:noMultiLvlLbl val="0"/>
      </c:catAx>
      <c:valAx>
        <c:axId val="988056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775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A47-57DF-437F-B083-731C91640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6B0-80CC-4104-9AFC-F4CD3C379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6B4C-4E56-45F0-B417-5EB6F20A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D1E-F88D-4210-8D7F-3507B963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D259-83DD-4CA6-A190-E5A47FF4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D3B-9FE0-42E8-B36A-C85E981A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A78E-5B27-48FF-960A-C782C52A7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C0D-D2E0-4196-8B78-BFC3C237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1834-8413-497B-AB72-502421A9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A36-0D66-4768-B1BC-068908C3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A96A-B3AA-47A4-BBD5-B568B224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FEE-86CC-466A-A551-88CF22D0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850CA-ACF0-4781-B229-DF277D578FB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